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9BB-2FD3-4461-82DD-88A4F39C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047-CE63-4D9B-A0AA-6A842062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BEB-012F-4ED7-9240-56E84DC1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C95-2587-4B8D-A608-9C6E633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D71-D727-4858-89C2-4706134B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F3E2-B3AF-4C30-B3B7-7727A74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43F-470A-4010-A872-EAE466C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3EF6-A64F-4D96-B0DB-55DCBC23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8EA1-FF50-44FC-A278-40D2ECB1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7BA-BD7B-4E01-8718-84C457E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B9D6-73A8-439D-9D85-1DD64F3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3AA-9AB0-4E7A-8575-1F7E63C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3E4B-D0EB-4494-8687-52EB34B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CFA9-EEC3-4C28-B4E5-C9ACBBA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E44-D1A0-4B52-B06E-68B1598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4E9D-DAA8-42AD-AB56-03FDFDA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B678-DAD7-4244-B868-52F39335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0E2-BF0B-4A8C-9F74-9E0DFCAA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047-1785-4FA2-AD5C-6663282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F1F-E08F-440D-A15C-0D80FB72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ED0-6AED-4AB0-807F-B6DCB891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C3C-C2BE-450E-AAEE-703E024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3DD-C818-429F-A62C-9FA268D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1A3-769D-4FF1-BCD3-8C9916F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ECB0-A1FE-41FA-BF73-ABA876EED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6DC-7577-4871-B1F1-7F151618D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6/Nuna3atZandvoort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re.energy.gov/windandhydro/windpoweringamerica/images/windmaps/installed_capacity_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Fossil Fuel Addictio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e941c"/>
                </a:solidFill>
                <a:uFillTx/>
                <a:latin typeface="Arial"/>
              </a:rPr>
              <a:t>Photovoltaics</a:t>
            </a:r>
            <a:r>
              <a:rPr b="1" lang="en-US" sz="3200" spc="-1" strike="noStrike">
                <a:solidFill>
                  <a:srgbClr val="ee941c"/>
                </a:solidFill>
                <a:latin typeface="Arial"/>
              </a:rPr>
              <a:t>: To make 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to electricity at the atom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solid semiconductor material like silic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233960" cy="3208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6766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rect 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ssive solar energ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assively heating a house, wat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roper building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e941c"/>
                </a:solidFill>
                <a:uFillTx/>
                <a:latin typeface="Arial"/>
              </a:rPr>
              <a:t>Solar t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ats water or molten salt (2) (salt stores heat long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nerates steam for electricity (3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0199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4495680"/>
            <a:ext cx="17524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ea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3975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enefit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uel sou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an be used in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olar power is pollution free during 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Little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osts are low, after initial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roblem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nsive to start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silicon Solar cells are co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arge initial capital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ots of land (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0yrpayback-large" descr=""/>
          <p:cNvPicPr/>
          <p:nvPr/>
        </p:nvPicPr>
        <p:blipFill>
          <a:blip r:embed="rId2"/>
          <a:stretch/>
        </p:blipFill>
        <p:spPr>
          <a:xfrm>
            <a:off x="15228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re is Solar Power being Utilized today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Jap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op country for photovoltaic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econd highest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nited St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hird highes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that are best suited for solar energy systems in the U.S. = 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s of Nevada, Utah, Arizona, New Me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ar power for transport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800px-Nuna3atZandvoort1" descr="Image:Nuna3atZandvoor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295280"/>
            <a:ext cx="5943600" cy="419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571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 practical solar powered car have been an engineering goal for over 2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Fue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575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ffffff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6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viron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CO2 and SO2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the reliance on non-renewab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needed to build turbine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re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farms use les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arm and graze around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27 wind turbines"/>
          <p:cNvPicPr/>
          <p:nvPr/>
        </p:nvPicPr>
        <p:blipFill>
          <a:blip r:embed="rId2"/>
          <a:stretch/>
        </p:blipFill>
        <p:spPr>
          <a:xfrm>
            <a:off x="2438280" y="3124080"/>
            <a:ext cx="438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and not aesthetically p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deaths of birds and b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Economic Problem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nd mai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speeds are fastest off or near sh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onstructing in these area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and: best sites often in remo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, mountain p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37240" y="0"/>
            <a:ext cx="440676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using w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 (3%) Germany (6%) Denmar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%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: less than 1% electricity from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with most wind turbine produ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and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0 million dollar wind farm planned for North Dak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This map shows the installed wind capacity in megawatts.  As of September 30, 2006, 11,078 MW have been installed. Alaska, 2 MW; Hawaii, 49 MW; Washington, 680 MW; Oregon, 439 MW; California, 2320 MW; Idaho, 75 MW; Utah, 1 MW; Montana, 147 MW; Wyoming, 288 MW; Colorado, 291 MW; New Mexico, 407 MW; North Dakota, 178 MW; South Dakota, 44 MW; Nebraska, 73 MW; Kansas, 364 MW; Oklahoma, 475 MW; Texas, 2898 MW; Minnesota, 794 MW; Iowa, 837 MW; Wisconsin, 53 MW; Illinois, 107 MW; Tennessee, 29 MW; Michigan, 3 MW; Ohio, 7 MW; West Virginia, 66 MW; Pennsylvania, 153 MW; New Jersey, 8 MW; New York, 280 MW; Vermont, 6 MW; New Hampshire, 1 MW; Massachusetts, 4 MW; Rhode Island, 1 MW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98108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ind Farms in California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of wind pow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production can exceed world energy consumption 5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wind power use in at least 3 windy states can provide energy for all the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erged water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fully develop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ffects on the environment (seali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chine f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big tide different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fuels (Ethanol from Corn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 up 50%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from corn kernels, need technology to use cellulose (agricultural waste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support from farm state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corn"/>
          <p:cNvPicPr/>
          <p:nvPr/>
        </p:nvPicPr>
        <p:blipFill>
          <a:blip r:embed="rId2"/>
          <a:stretch/>
        </p:blipFill>
        <p:spPr>
          <a:xfrm>
            <a:off x="3124080" y="4114800"/>
            <a:ext cx="281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 gall of ethanol = energy of 28 gal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uses lots of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urn coal to make it!!!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hipped in pipelines…trucked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l machines harvest it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corn.jpg"/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only 10% more energy than required to make i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ing fields, harvesting, distilling to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Cane is 7X more effici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 heavily tax Brazilian ethanol to prevent competition 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corn.jpg"/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ulose Ethan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fuel 1/3 of all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waste stalks (no extra fertilizer to grow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lk than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corn.jpg"/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udzu: the next biofuel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tatehouse11.jpg"/>
          <p:cNvPicPr/>
          <p:nvPr/>
        </p:nvPicPr>
        <p:blipFill>
          <a:blip r:embed="rId2"/>
          <a:stretch/>
        </p:blipFill>
        <p:spPr>
          <a:xfrm>
            <a:off x="1676520" y="1752480"/>
            <a:ext cx="6092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gae makes fu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lmost anywhere wit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oil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A Bioreactor"/>
          <p:cNvPicPr/>
          <p:nvPr/>
        </p:nvPicPr>
        <p:blipFill>
          <a:blip r:embed="rId2"/>
          <a:stretch/>
        </p:blipFill>
        <p:spPr>
          <a:xfrm>
            <a:off x="1066680" y="2185920"/>
            <a:ext cx="6477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80880"/>
          <a:ext cx="7696080" cy="4889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et 5 - 15,0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year to gr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few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t be distilled and processed more extensively for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ae is 50% oil, easily converted to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farm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grown anywhere (deserts.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s for food crop sp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mpetition for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Algae"/>
          <p:cNvPicPr/>
          <p:nvPr/>
        </p:nvPicPr>
        <p:blipFill>
          <a:blip r:embed="rId2"/>
          <a:stretch/>
        </p:blipFill>
        <p:spPr>
          <a:xfrm>
            <a:off x="5105520" y="5181480"/>
            <a:ext cx="27860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or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Geother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eat taken from the Earth in steam or heated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areas close to geological faults or hot spo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20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 sh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660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sh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the waves acts as a p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 significant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machine that will work efficiently with waves of different siz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in the aquat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w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s (when develop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lf stream, Florida straits current, California current; estuary in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one in the world inte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aterial made by plants and/or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read about this in your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ee941c"/>
                </a:solidFill>
                <a:uFillTx/>
                <a:latin typeface="Arial"/>
              </a:rPr>
              <a:t>High Heat Sour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ma heats rocks and aquifer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rill a well to bring hot water/steam to surfa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eam turns turbine to make electricit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t Rock Geothermal Energy"/>
          <p:cNvPicPr/>
          <p:nvPr/>
        </p:nvPicPr>
        <p:blipFill>
          <a:blip r:embed="rId2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e941c"/>
                </a:solidFill>
                <a:uFillTx/>
                <a:latin typeface="Times New Roman"/>
              </a:rPr>
              <a:t>Low heat sources (Groundwat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ent virtually every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Map of USA Geothermal Power Hotspots"/>
          <p:cNvPicPr/>
          <p:nvPr/>
        </p:nvPicPr>
        <p:blipFill>
          <a:blip r:embed="rId2"/>
          <a:stretch/>
        </p:blipFill>
        <p:spPr>
          <a:xfrm>
            <a:off x="457200" y="152280"/>
            <a:ext cx="81504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Benefit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e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und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land disturba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Problem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is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emissions and hazardou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monia, sulfur dioxide, hydrogen sulf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ly to install geothermal heat pum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tosborne</cp:lastModifiedBy>
  <dcterms:modified xsi:type="dcterms:W3CDTF">2009-01-13T15:54:23Z</dcterms:modified>
  <cp:revision>26</cp:revision>
  <dc:subject/>
  <dc:title>Slide 1</dc:title>
</cp:coreProperties>
</file>